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8.jpeg" ContentType="image/jpeg"/>
  <Override PartName="/ppt/media/image16.jpeg" ContentType="image/jpeg"/>
  <Override PartName="/ppt/media/image28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35.gif" ContentType="image/gif"/>
  <Override PartName="/ppt/media/image11.png" ContentType="image/pn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3A9-C0D4-4B97-BB57-6CFEC554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922-033D-455E-B4CD-B5B3FAA8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661-701C-4930-9C77-6C6FF8FC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D46-9CE3-470E-B5A3-3F52DE8B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669A-C04A-41C2-95B1-B8E6941A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C8E5-CBA3-41F5-97E9-3683919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64CC-BFD4-4BE9-AC62-BFBD301A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1DDF-6E10-4196-AC74-F24D04ED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BBE7-5DBE-4896-8705-2EC3C502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F659-3741-4CC4-9617-430A3A49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0713-6CB0-4119-8FAB-92D9663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041-8412-485A-BD01-D2F6BCD4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805B-9026-481B-9BC3-72973A7B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629-F5EF-4428-B0E6-80C631F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4B1E-183E-412F-884A-1A52E50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66F6-B7F9-460A-B74A-2D0BE5EE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4CAF-ED91-4D1F-960F-7A882339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64ED-19A5-4937-B569-92544343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5223-C290-4A0B-9E8A-10B0FA72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6EAB-03DA-4AD8-B147-70F71614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6C36-A93E-490F-9923-B148D993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AA4C-5013-4EEC-81C6-F297C794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CD8-5A8E-46D6-B166-F34A0745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2334-ACC6-498D-809E-5F71C988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472F-DB4A-46CE-AACA-BDE86E2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4EB8-27BF-49E1-8019-1A45765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2835-DBC0-4C00-B4FE-4A0011C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46AB-8791-436D-9268-1830F45C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4602-CFAB-449B-B2D6-6407F34A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51537-F339-4A12-9A2A-B4382319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8426F-9994-49C5-BD34-E48AB9A5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D734-B279-4571-9A4A-94B87268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FBDFA-0DCD-44E6-BA71-5DFF4A2F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C71-4F5A-4B59-9E1B-819DACF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371D-903F-4E23-8256-5FD8109A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7378-913D-4CE6-AF17-9E63F069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9039-2119-418D-B92F-F6E18A9C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2555-91E0-4D52-8DB6-37E9E9DA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2409-DD80-41F0-B443-562A2434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E99B2-3008-45C3-8BAB-10197B1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E821-6F07-4186-83EA-AFDB2CB5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F219-E514-495A-AB4D-22C3232C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7099-0B59-4E44-8420-4D83A9D7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6F0F9-5C11-42A6-A45C-08524EE6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C62-5E47-4370-8E39-B375EB9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4993-0B1E-4C08-B2D1-9A6B450A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28E80-0F2C-4874-A293-0E399A1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FFFD-00F7-4213-83EB-58C17607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892E-7115-49EA-9DFC-E2138810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A38E-5F36-406B-A64B-E563054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BBB2B-9128-4304-810E-31350E30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6001B-916D-404D-9E87-66CDC43E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0C43-0D7B-4AE3-887B-65F9ED6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F4570-B480-4D8F-AB16-D28B0E4A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BCEFB-FE38-405B-B620-A6C606A3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89B-8599-4B49-BB4C-E28672A6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BBAC5-E26C-41DF-B224-0D5DD332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417-2E5E-4BC6-9915-5F5C1804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5AB-F27C-47FD-A003-557C7767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5EF-35BF-4CD7-A47E-BA1B6441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5D90-7603-4723-A96C-BBDF986B3FC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2DBF-4463-456C-B9CC-D5B2701DCA2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312B-D66C-477D-B848-7F700267D0F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641F-97A9-47F2-BDE0-6AD2A5EC66A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7F5E-0AE1-4442-941A-B51BCF43280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5.gif"/><Relationship Id="rId11" Type="http://schemas.openxmlformats.org/officeDocument/2006/relationships/image" Target="../media/image35.gif"/><Relationship Id="rId12" Type="http://schemas.openxmlformats.org/officeDocument/2006/relationships/image" Target="../media/image36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1029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11280" y="151416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ез прошл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ет настояще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 нет будущег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85c55b4e2c4b"/>
          <p:cNvPicPr/>
          <p:nvPr/>
        </p:nvPicPr>
        <p:blipFill>
          <a:blip r:embed="rId1"/>
          <a:stretch/>
        </p:blipFill>
        <p:spPr>
          <a:xfrm>
            <a:off x="324000" y="4005360"/>
            <a:ext cx="2296800" cy="249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b8597b9ee0bt"/>
          <p:cNvPicPr/>
          <p:nvPr/>
        </p:nvPicPr>
        <p:blipFill>
          <a:blip r:embed="rId2"/>
          <a:stretch/>
        </p:blipFill>
        <p:spPr>
          <a:xfrm>
            <a:off x="6745320" y="0"/>
            <a:ext cx="21985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117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42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1214280" y="1571760"/>
            <a:ext cx="6762960" cy="21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5" name="Рисунок 4" descr="http://housens.ru/photo/3d/3d9011be09421635bdfb31fd74e8ac04.jpg"/>
          <p:cNvPicPr/>
          <p:nvPr/>
        </p:nvPicPr>
        <p:blipFill>
          <a:blip r:embed="rId1"/>
          <a:stretch/>
        </p:blipFill>
        <p:spPr>
          <a:xfrm>
            <a:off x="928800" y="785880"/>
            <a:ext cx="2038320" cy="23540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" descr="https://st4.depositphotos.com/8871012/19754/i/1600/depositphotos_197549768-stock-photo-horseshoe-door-symbol-happiness-prosperity.jpg"/>
          <p:cNvPicPr/>
          <p:nvPr/>
        </p:nvPicPr>
        <p:blipFill>
          <a:blip r:embed="rId2"/>
          <a:stretch/>
        </p:blipFill>
        <p:spPr>
          <a:xfrm>
            <a:off x="4929120" y="64296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" descr="http://interiorspace.ru/photo/34/34cca15ab20f518ebb1bb4687a4e9407.jpg"/>
          <p:cNvPicPr/>
          <p:nvPr/>
        </p:nvPicPr>
        <p:blipFill>
          <a:blip r:embed="rId3"/>
          <a:stretch/>
        </p:blipFill>
        <p:spPr>
          <a:xfrm>
            <a:off x="785880" y="2762280"/>
            <a:ext cx="3286080" cy="28940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7" descr="https://www.slavyarmarka.ru/image/cache/data/2018/02/03-900x900.jpg"/>
          <p:cNvPicPr/>
          <p:nvPr/>
        </p:nvPicPr>
        <p:blipFill>
          <a:blip r:embed="rId4"/>
          <a:stretch/>
        </p:blipFill>
        <p:spPr>
          <a:xfrm>
            <a:off x="5357880" y="3214800"/>
            <a:ext cx="2409840" cy="24098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"/>
          <p:cNvSpPr/>
          <p:nvPr/>
        </p:nvSpPr>
        <p:spPr>
          <a:xfrm>
            <a:off x="295200" y="142920"/>
            <a:ext cx="8848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47840" y="295200"/>
            <a:ext cx="884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632268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476280"/>
            <a:ext cx="8183520" cy="581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авила создания оберег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- нельзя делать оберег для себ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- нельзя заставлять или упрашивать другого человека сделать обере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- наибольшей силой обладают обереги, сделанные кровными родственник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- внимательно выбирайте материал, из которого изготавливается обере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- когда будете создавать оберег, постоянно думайте о том человеке, кому он предназнача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1317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Рисунок 4" descr="http://ds61.detkin-club.ru/editor/37/images/%D0%94%D0%BB%D1%8F%D0%B3%D1%80%D1%83%D0%BF%D0%BF/2291139e52b85e6ed047f3ecc8d86505.png"/>
          <p:cNvPicPr/>
          <p:nvPr/>
        </p:nvPicPr>
        <p:blipFill>
          <a:blip r:embed="rId1"/>
          <a:stretch/>
        </p:blipFill>
        <p:spPr>
          <a:xfrm>
            <a:off x="4714920" y="500040"/>
            <a:ext cx="1500120" cy="1357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5" descr="https://static2.kupivip.kz/V0/01/79/79/12/taching-dekor_perchiki_chili-1b.jpg"/>
          <p:cNvPicPr/>
          <p:nvPr/>
        </p:nvPicPr>
        <p:blipFill>
          <a:blip r:embed="rId2"/>
          <a:stretch/>
        </p:blipFill>
        <p:spPr>
          <a:xfrm>
            <a:off x="7143840" y="500040"/>
            <a:ext cx="1093680" cy="16430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9"/>
          <p:cNvSpPr/>
          <p:nvPr/>
        </p:nvSpPr>
        <p:spPr>
          <a:xfrm>
            <a:off x="6572160" y="2214720"/>
            <a:ext cx="21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ает дом от негативной энер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ст смел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ит удач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ет силу дух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0"/>
          <p:cNvSpPr/>
          <p:nvPr/>
        </p:nvSpPr>
        <p:spPr>
          <a:xfrm>
            <a:off x="4357800" y="192888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ух - символ Солн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4"/>
          <p:cNvSpPr/>
          <p:nvPr/>
        </p:nvSpPr>
        <p:spPr>
          <a:xfrm>
            <a:off x="571680" y="207180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— символ долголе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5" descr="https://png.pngtree.com/png_detail/18/09/10/pngtree-vector-cherry-png-clipart_2165019.jpg"/>
          <p:cNvPicPr/>
          <p:nvPr/>
        </p:nvPicPr>
        <p:blipFill>
          <a:blip r:embed="rId3"/>
          <a:stretch/>
        </p:blipFill>
        <p:spPr>
          <a:xfrm>
            <a:off x="500040" y="2571840"/>
            <a:ext cx="1285920" cy="107136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17"/>
          <p:cNvSpPr/>
          <p:nvPr/>
        </p:nvSpPr>
        <p:spPr>
          <a:xfrm>
            <a:off x="428760" y="364320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ни — символ п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18" descr="https://content-16.foto.my.mail.ru/community/society2/_groupsphoto/h-28939.jpg"/>
          <p:cNvPicPr/>
          <p:nvPr/>
        </p:nvPicPr>
        <p:blipFill>
          <a:blip r:embed="rId4"/>
          <a:stretch/>
        </p:blipFill>
        <p:spPr>
          <a:xfrm>
            <a:off x="2928960" y="785880"/>
            <a:ext cx="1349280" cy="10713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9"/>
          <p:cNvSpPr/>
          <p:nvPr/>
        </p:nvSpPr>
        <p:spPr>
          <a:xfrm>
            <a:off x="2571840" y="1928880"/>
            <a:ext cx="18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шиповника — символ 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2"/>
          <p:cNvSpPr/>
          <p:nvPr/>
        </p:nvSpPr>
        <p:spPr>
          <a:xfrm>
            <a:off x="6072120" y="492120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лаки, бобов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символ достатка,  сытой жизни, благополуч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4"/>
          <p:cNvSpPr/>
          <p:nvPr/>
        </p:nvSpPr>
        <p:spPr>
          <a:xfrm>
            <a:off x="2286000" y="40593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ква, семена тыкв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 плодород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5"/>
          <p:cNvSpPr/>
          <p:nvPr/>
        </p:nvSpPr>
        <p:spPr>
          <a:xfrm>
            <a:off x="4429080" y="378612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ет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успех в де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17" descr="https://fermer.blog/media/res/1/2/2/6/3/12263.pfyz10.840.jpg"/>
          <p:cNvPicPr/>
          <p:nvPr/>
        </p:nvPicPr>
        <p:blipFill>
          <a:blip r:embed="rId5"/>
          <a:stretch/>
        </p:blipFill>
        <p:spPr>
          <a:xfrm>
            <a:off x="2428920" y="2928960"/>
            <a:ext cx="1760400" cy="11714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8" descr="https://agrobazar.ru/upload/iblock/4da/4dabc6a43167e83f51e880d511d70e32.jpg"/>
          <p:cNvPicPr/>
          <p:nvPr/>
        </p:nvPicPr>
        <p:blipFill>
          <a:blip r:embed="rId6"/>
          <a:stretch/>
        </p:blipFill>
        <p:spPr>
          <a:xfrm>
            <a:off x="6429240" y="3286080"/>
            <a:ext cx="1952640" cy="165096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24" descr="http://prikolnye-kartinki.ru/img/picture/Mar/28/9fd4738046b29c9bc132912877aec72e/5.jpg"/>
          <p:cNvPicPr/>
          <p:nvPr/>
        </p:nvPicPr>
        <p:blipFill>
          <a:blip r:embed="rId7"/>
          <a:stretch/>
        </p:blipFill>
        <p:spPr>
          <a:xfrm>
            <a:off x="571680" y="714240"/>
            <a:ext cx="1571400" cy="142884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25" descr="https://avatars.mds.yandex.net/get-marketpic/228107/market_MBYuWSI4zxVGnXagI7ZG3A/orig"/>
          <p:cNvPicPr/>
          <p:nvPr/>
        </p:nvPicPr>
        <p:blipFill>
          <a:blip r:embed="rId8"/>
          <a:stretch/>
        </p:blipFill>
        <p:spPr>
          <a:xfrm>
            <a:off x="4500720" y="2428920"/>
            <a:ext cx="1428480" cy="13572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26" descr="https://domdekora.in.ua/wp-content/uploads/2015/09/42299-600x800.jpg"/>
          <p:cNvPicPr/>
          <p:nvPr/>
        </p:nvPicPr>
        <p:blipFill>
          <a:blip r:embed="rId9"/>
          <a:stretch/>
        </p:blipFill>
        <p:spPr>
          <a:xfrm>
            <a:off x="4714920" y="4286160"/>
            <a:ext cx="1028520" cy="149076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7"/>
          <p:cNvSpPr/>
          <p:nvPr/>
        </p:nvSpPr>
        <p:spPr>
          <a:xfrm>
            <a:off x="3214800" y="478620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о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имвол богат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23" descr="D:\Мои документы\всё\буквы подготовка\Сказочные персонажи\Сказочные персонажи\Копия bc054938d33e.jpg"/>
          <p:cNvPicPr/>
          <p:nvPr/>
        </p:nvPicPr>
        <p:blipFill>
          <a:blip r:embed="rId10"/>
          <a:stretch/>
        </p:blipFill>
        <p:spPr>
          <a:xfrm>
            <a:off x="785880" y="3929040"/>
            <a:ext cx="1500120" cy="15717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5"/>
          <p:cNvSpPr/>
          <p:nvPr/>
        </p:nvSpPr>
        <p:spPr>
          <a:xfrm>
            <a:off x="428760" y="5430960"/>
            <a:ext cx="257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ово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хранитель мира и покоя в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958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WordArt 6"/>
          <p:cNvSpPr txBox="1"/>
          <p:nvPr/>
        </p:nvSpPr>
        <p:spPr>
          <a:xfrm>
            <a:off x="2411280" y="1628640"/>
            <a:ext cx="4537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 А С И Б 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   УРОК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Picture 7" descr="422c4a45fa953ed113af57df1524b53b"/>
          <p:cNvPicPr/>
          <p:nvPr/>
        </p:nvPicPr>
        <p:blipFill>
          <a:blip r:embed="rId6"/>
          <a:stretch/>
        </p:blipFill>
        <p:spPr>
          <a:xfrm>
            <a:off x="755640" y="4581360"/>
            <a:ext cx="1209600" cy="1009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422c4a45fa953ed113af57df1524b53b"/>
          <p:cNvPicPr/>
          <p:nvPr/>
        </p:nvPicPr>
        <p:blipFill>
          <a:blip r:embed="rId7"/>
          <a:stretch/>
        </p:blipFill>
        <p:spPr>
          <a:xfrm>
            <a:off x="7020000" y="4941720"/>
            <a:ext cx="1209600" cy="1009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422c4a45fa953ed113af57df1524b53b"/>
          <p:cNvPicPr/>
          <p:nvPr/>
        </p:nvPicPr>
        <p:blipFill>
          <a:blip r:embed="rId8"/>
          <a:stretch/>
        </p:blipFill>
        <p:spPr>
          <a:xfrm>
            <a:off x="3995640" y="404640"/>
            <a:ext cx="1209600" cy="1009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422c4a45fa953ed113af57df1524b53b"/>
          <p:cNvPicPr/>
          <p:nvPr/>
        </p:nvPicPr>
        <p:blipFill>
          <a:blip r:embed="rId9"/>
          <a:stretch/>
        </p:blipFill>
        <p:spPr>
          <a:xfrm>
            <a:off x="900000" y="1628640"/>
            <a:ext cx="1209960" cy="1009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422c4a45fa953ed113af57df1524b53b"/>
          <p:cNvPicPr/>
          <p:nvPr/>
        </p:nvPicPr>
        <p:blipFill>
          <a:blip r:embed="rId10"/>
          <a:stretch/>
        </p:blipFill>
        <p:spPr>
          <a:xfrm>
            <a:off x="4140360" y="5373720"/>
            <a:ext cx="1209600" cy="1009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422c4a45fa953ed113af57df1524b53b"/>
          <p:cNvPicPr/>
          <p:nvPr/>
        </p:nvPicPr>
        <p:blipFill>
          <a:blip r:embed="rId11"/>
          <a:stretch/>
        </p:blipFill>
        <p:spPr>
          <a:xfrm>
            <a:off x="7308720" y="2060640"/>
            <a:ext cx="1209960" cy="1009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2740fe928c1f1a8e3da0b354ced8f9a1"/>
          <p:cNvPicPr/>
          <p:nvPr/>
        </p:nvPicPr>
        <p:blipFill>
          <a:blip r:embed="rId1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885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85520" y="785880"/>
            <a:ext cx="790092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прошлого и будущего нет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главный человечества зав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ть землю нашу берегут века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, кто зовется гордо казаками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с детства пусть запомнят наши дет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Родина - святей всего на свете!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9786960" y="1143000"/>
            <a:ext cx="2858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261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1100160" y="549360"/>
            <a:ext cx="6943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5867280" y="5589720"/>
            <a:ext cx="18478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1042920" y="692280"/>
            <a:ext cx="4815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 Е М А    З А Н Я Т И Я 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WordArt 9"/>
          <p:cNvSpPr txBox="1"/>
          <p:nvPr/>
        </p:nvSpPr>
        <p:spPr>
          <a:xfrm>
            <a:off x="1835280" y="2708280"/>
            <a:ext cx="489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  О Б Е Р Е Г 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1029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13920" y="850680"/>
            <a:ext cx="7000920" cy="342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и и задачи: </a:t>
            </a:r>
            <a:r>
              <a:rPr b="0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ивать любовь к народным казачьим традициям Кубан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635280" y="-1141200"/>
            <a:ext cx="518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357120" y="357120"/>
            <a:ext cx="857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4e8542"/>
                </a:solidFill>
                <a:latin typeface="Arial"/>
              </a:rPr>
              <a:t>ОБЕР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оберег, -а, м. (устар. и спец.).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редмет, оберегающий, охраняющий от чего-нибу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бере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порчи, от дурного гл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дк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д дверью - оберег дом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500120" y="571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олковый словарь  Да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885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1680" y="214200"/>
            <a:ext cx="7929360" cy="55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бере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- изделие из металла, камня, кожи, глины, кости или дерева, предназначенный для защиты его обладателя от вредоносного влияния, сглаза, порчи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берег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 может приносить победу, удачу, богатство, здоровь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Главное - правильно его подобрать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мните, что подаренный 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берег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 сильнее, чем просто купленны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780000" y="-642960"/>
            <a:ext cx="50400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2357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Рисунок 5" descr="http://magspace.ru/uploads/2014/10/28/auto_16-21740_386737.jpeg"/>
          <p:cNvPicPr/>
          <p:nvPr/>
        </p:nvPicPr>
        <p:blipFill>
          <a:blip r:embed="rId1"/>
          <a:stretch/>
        </p:blipFill>
        <p:spPr>
          <a:xfrm>
            <a:off x="5786280" y="357120"/>
            <a:ext cx="3000600" cy="2214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https://cs2.livemaster.ru/storage/0e/d8/ab35790f8aa6d3a1e0ed80c707ys--russkij-stil-zheton-kazaka-bronzovyj.jpg"/>
          <p:cNvPicPr/>
          <p:nvPr/>
        </p:nvPicPr>
        <p:blipFill>
          <a:blip r:embed="rId2"/>
          <a:stretch/>
        </p:blipFill>
        <p:spPr>
          <a:xfrm>
            <a:off x="214200" y="285840"/>
            <a:ext cx="264348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http://slavtorg.org/wa-data/public/shop/products/72/13/1372/images/2155/2155.750x0.jpg"/>
          <p:cNvPicPr/>
          <p:nvPr/>
        </p:nvPicPr>
        <p:blipFill>
          <a:blip r:embed="rId3"/>
          <a:stretch/>
        </p:blipFill>
        <p:spPr>
          <a:xfrm>
            <a:off x="3143160" y="285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8" descr="http://mednolit.ru/_fr/109/9324065.jpg"/>
          <p:cNvPicPr/>
          <p:nvPr/>
        </p:nvPicPr>
        <p:blipFill>
          <a:blip r:embed="rId4"/>
          <a:stretch/>
        </p:blipFill>
        <p:spPr>
          <a:xfrm>
            <a:off x="3143160" y="2357280"/>
            <a:ext cx="2581200" cy="2097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9" descr="http://www.russia-open.com/files/2291/03.png"/>
          <p:cNvPicPr/>
          <p:nvPr/>
        </p:nvPicPr>
        <p:blipFill>
          <a:blip r:embed="rId5"/>
          <a:stretch/>
        </p:blipFill>
        <p:spPr>
          <a:xfrm>
            <a:off x="2357280" y="4572000"/>
            <a:ext cx="4286520" cy="18144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0" descr="https://cs2.livemaster.ru/storage/bb/a1/a5b1f31469e03a47dcb85e41cdah--russkij-stil-avtorskij-obereg-kazak-predok.jpg"/>
          <p:cNvPicPr/>
          <p:nvPr/>
        </p:nvPicPr>
        <p:blipFill>
          <a:blip r:embed="rId6"/>
          <a:stretch/>
        </p:blipFill>
        <p:spPr>
          <a:xfrm>
            <a:off x="6421320" y="2643120"/>
            <a:ext cx="243684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1" descr="https://xn----7sbcgncrekc6ag4bfexj3m.xn--p1ai/assets/images/products/90/dsc04604.jpg"/>
          <p:cNvPicPr/>
          <p:nvPr/>
        </p:nvPicPr>
        <p:blipFill>
          <a:blip r:embed="rId7"/>
          <a:stretch/>
        </p:blipFill>
        <p:spPr>
          <a:xfrm>
            <a:off x="357120" y="2928960"/>
            <a:ext cx="2214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885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611280" y="3681360"/>
            <a:ext cx="82087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6" descr="https://img0.liveinternet.ru/images/attach/c/5/88/954/88954702_454.jpg"/>
          <p:cNvPicPr/>
          <p:nvPr/>
        </p:nvPicPr>
        <p:blipFill>
          <a:blip r:embed="rId1"/>
          <a:stretch/>
        </p:blipFill>
        <p:spPr>
          <a:xfrm>
            <a:off x="357120" y="214200"/>
            <a:ext cx="3214800" cy="3929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7" descr="https://stranamasterov.ru/img4/i2015/07/06/186859_dsc09064.jpg"/>
          <p:cNvPicPr/>
          <p:nvPr/>
        </p:nvPicPr>
        <p:blipFill>
          <a:blip r:embed="rId2"/>
          <a:stretch/>
        </p:blipFill>
        <p:spPr>
          <a:xfrm>
            <a:off x="5357880" y="214200"/>
            <a:ext cx="3522600" cy="32148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9" descr="https://lugansk.slav-ceramic.com/wp-content/uploads/2018/08/6685-f1.jpg"/>
          <p:cNvPicPr/>
          <p:nvPr/>
        </p:nvPicPr>
        <p:blipFill>
          <a:blip r:embed="rId3"/>
          <a:stretch/>
        </p:blipFill>
        <p:spPr>
          <a:xfrm>
            <a:off x="3286080" y="714240"/>
            <a:ext cx="2571840" cy="30988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0" descr="https://avatars.mds.yandex.net/get-pdb/25978/2a720ba9-0e01-46a7-b56f-cfe482f95486/s1200"/>
          <p:cNvPicPr/>
          <p:nvPr/>
        </p:nvPicPr>
        <p:blipFill>
          <a:blip r:embed="rId4"/>
          <a:stretch/>
        </p:blipFill>
        <p:spPr>
          <a:xfrm>
            <a:off x="5214960" y="3257640"/>
            <a:ext cx="2881440" cy="3600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1" descr="http://www.blackpantera.ru/upload/medialibrary/52e/Kak-sdelat-obereg.jpg"/>
          <p:cNvPicPr/>
          <p:nvPr/>
        </p:nvPicPr>
        <p:blipFill>
          <a:blip r:embed="rId5"/>
          <a:stretch/>
        </p:blipFill>
        <p:spPr>
          <a:xfrm>
            <a:off x="928800" y="3714840"/>
            <a:ext cx="31431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1029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252720" y="-171360"/>
            <a:ext cx="9396360" cy="702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5508720" y="674640"/>
            <a:ext cx="30956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5" descr="https://fs00.infourok.ru/images/doc/318/317586/img8.jpg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06:54:27Z</dcterms:created>
  <dc:creator>Майя</dc:creator>
  <dc:description/>
  <dc:language>en-US</dc:language>
  <cp:lastModifiedBy>Админ</cp:lastModifiedBy>
  <dcterms:modified xsi:type="dcterms:W3CDTF">2019-03-17T16:11:28Z</dcterms:modified>
  <cp:revision>48</cp:revision>
  <dc:subject/>
  <dc:title>Слайд 1</dc:title>
</cp:coreProperties>
</file>